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52C-E29B-4C64-A21B-80A1A3B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0E5-C666-44C3-B0F7-8FF8ADB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72D-C6BD-458B-B5B1-A6DBA7F2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4D9-564A-479C-B4CA-25D36C1A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8B4-1222-4578-9B94-6FB5A85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FFE-B76A-49EC-BCC1-61ECB37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77B-1908-4A42-B6F7-749F817B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0E0-08E0-4B8E-BA65-9EB3118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ADA-4F1A-438F-BCB0-370FA0F8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47F-0226-4B95-A105-8B73296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A9D-73DF-4C83-8575-2968E20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F24-665F-4AF2-9AF6-0E981AF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5163-1827-48E1-B22B-4F473BD5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xymoronlist.com/-99k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ocities.com/Athens/Aegean/6720/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epts.gallaudet.edu/englishworks/literature/fiction.html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olweb.utk.edu/schools/bedford/harrisms/hyperbole.ht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Poet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The Art o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Figurative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Oxymo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two opposing or contradictory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 rot="1773600">
            <a:off x="685440" y="533160"/>
            <a:ext cx="237168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fine mes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1046400">
            <a:off x="5410080" y="533160"/>
            <a:ext cx="2772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umbo Shrim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4952880"/>
            <a:ext cx="34862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solutely unsur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1814400">
            <a:off x="5714640" y="4876560"/>
            <a:ext cx="27050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lent Screa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828800"/>
            <a:ext cx="29145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ceful Forc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 rot="20920200">
            <a:off x="6248520" y="2285640"/>
            <a:ext cx="2133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ed Liv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-523080" y="6215040"/>
            <a:ext cx="428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Rockwell Condensed"/>
                <a:hlinkClick r:id="rId1"/>
              </a:rPr>
              <a:t>www.oxymoronlist.com/-99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Idi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ing or cliché that has hidden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380880"/>
            <a:ext cx="306720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t to the hear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the matter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257800" y="1066680"/>
            <a:ext cx="32288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 is all thumb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-816840" y="5910120"/>
            <a:ext cx="618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Rockwell Condensed"/>
                <a:hlinkClick r:id="rId1"/>
              </a:rPr>
              <a:t>www.geocities.com/Athens/Aegean/6720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currence of stressed and unstressed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120" y="399960"/>
            <a:ext cx="70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Twas `bril lig `and the `sli thy `t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Did `gyre and `gim ble `in the `wa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</a:rPr>
              <a:t>Jabberwocky” Lewis Car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sound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666880"/>
            <a:ext cx="38862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Shel Silv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Sandra’s seen a leprecha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Eddie touched a troll,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Laurie danced with witches o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harlie found some goblin gold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Donald heard a mermaid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Susie spied an elf,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ut all the magic I have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’ve had to make myself.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Examples of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l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er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sense P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1800" y="2590920"/>
            <a:ext cx="28954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Po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066680"/>
            <a:ext cx="15238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457200"/>
            <a:ext cx="16765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Oxym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57200"/>
            <a:ext cx="1371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12408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Apostro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2286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Hyper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952880"/>
            <a:ext cx="16002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5562720"/>
            <a:ext cx="19051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Perso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5486400"/>
            <a:ext cx="15238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4267080"/>
            <a:ext cx="1371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Idi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09680" y="3733920"/>
            <a:ext cx="106704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04760" y="327672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885840" y="3962520"/>
            <a:ext cx="30492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886200"/>
            <a:ext cx="76212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350532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2819160"/>
            <a:ext cx="13716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240" y="190512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43400" y="1447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9200" y="1295280"/>
            <a:ext cx="106668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wo things using like or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57200"/>
            <a:ext cx="7162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e is as pretty as a pictur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84600" y="585792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302480" y="5986440"/>
            <a:ext cx="9158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Rockwell Condensed"/>
                <a:hlinkClick r:id="rId1"/>
              </a:rPr>
              <a:t>http://depts.gallaudet.edu/englishworks/literature/fi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hing is used to represent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609480"/>
            <a:ext cx="73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stars danced in her ey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postrop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aker addresses a person who is not present or a personified it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0"/>
            <a:ext cx="328608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meo, Romeo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fore art thou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me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 rot="2527200">
            <a:off x="4209840" y="1371600"/>
            <a:ext cx="4933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f you could only see me now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Hyperb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e exagg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 rot="21080400">
            <a:off x="0" y="990360"/>
            <a:ext cx="6543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 would capture the mo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 rot="3703800">
            <a:off x="5374080" y="2093400"/>
            <a:ext cx="367668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 nearly died laughing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-1189080" y="5986440"/>
            <a:ext cx="9344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Rockwell Condensed"/>
                <a:hlinkClick r:id="rId1"/>
              </a:rPr>
              <a:t>http://volweb.utk.edu/schools/bedford/harrisms/hyperbol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between what is stated and what is meant or expected to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378144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san wrecked her car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e exclaimed, "I a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ving a wonderful night!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 rot="2129400">
            <a:off x="3580920" y="304920"/>
            <a:ext cx="57913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ohn stayed up all nigh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mpleting a paper that 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ue the next morning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is computer crashed before he printed it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arad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to be contradictory but actually i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685800"/>
            <a:ext cx="257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only certaint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s change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 rot="1915800">
            <a:off x="4800600" y="761760"/>
            <a:ext cx="29908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land of hunger in 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me of plenty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 rot="826200">
            <a:off x="2666520" y="5028840"/>
            <a:ext cx="36291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t was the best of time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t was the worst of time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human subject is given human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ing human characteristics to inanimat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0"/>
            <a:ext cx="562932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door groaned as 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lowly opened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6:39:55Z</dcterms:created>
  <dc:creator>lhimel</dc:creator>
  <dc:description/>
  <dc:language>en-US</dc:language>
  <cp:lastModifiedBy>DCSUSER</cp:lastModifiedBy>
  <dcterms:modified xsi:type="dcterms:W3CDTF">2010-01-14T17:44:05Z</dcterms:modified>
  <cp:revision>11</cp:revision>
  <dc:subject/>
  <dc:title>Poetry</dc:title>
</cp:coreProperties>
</file>